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7EA2-0130-4AED-8746-E2440D934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86F4-9D6A-40FB-8D6E-836B7C99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F25-E841-46FC-A6F7-46CA40F4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D93-73A3-4D4C-AB0F-1350E562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67B-DD21-4476-BB40-21114055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605-E4AF-4FC9-8AB9-D9F7D28F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F0C-D82C-4774-8C58-542AECC6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6AD-1543-4838-AE00-57AFBD4E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664-3173-4BEF-B3C3-5835C649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B49-26CD-4E80-B6F8-34152E0D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E11-6A5F-4956-9272-BB1C2FCB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8C8-72BF-4EE1-AD5F-8688692B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E98-07D2-4DE4-A404-5695298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1C4-5486-4513-AECD-BCBC860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8E0-3E99-40B1-8819-17FD4891B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7:01Z</dcterms:modified>
  <cp:revision>103</cp:revision>
  <dc:subject/>
  <dc:title>Profile</dc:title>
</cp:coreProperties>
</file>